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C8E-B88F-416A-A05F-7C4C5C5E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D51-1865-4C80-9082-D359D250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DAF-AB16-4F73-9F75-CEADE2D4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FCD-2830-49CF-A220-599CCA39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466-7F26-4F40-BE9D-D7CF5BF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52E-3B0F-44D6-A009-CB09FB6C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114-467F-4D47-8993-7B143CA1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AFF-FD51-4FE3-A40D-E4BC46BA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6FD-007F-40AA-867B-7ED2BD2B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07E-B66D-4676-A9F0-F4420D5C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E03-1B54-4855-A7A8-81F125A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41C-989C-4A15-B34A-32C744DC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3BA0-CBF5-4ACC-898C-67D9BA088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6"/>
          <p:cNvSpPr/>
          <p:nvPr/>
        </p:nvSpPr>
        <p:spPr>
          <a:xfrm>
            <a:off x="0" y="-9360"/>
            <a:ext cx="12192120" cy="6858000"/>
          </a:xfrm>
          <a:prstGeom prst="rect">
            <a:avLst/>
          </a:prstGeom>
          <a:solidFill>
            <a:srgbClr val="d26d5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3392640" y="2573280"/>
            <a:ext cx="5406840" cy="17114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22"/>
          <p:cNvSpPr/>
          <p:nvPr/>
        </p:nvSpPr>
        <p:spPr>
          <a:xfrm>
            <a:off x="3905280" y="2689200"/>
            <a:ext cx="43815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8826a"/>
                </a:solidFill>
                <a:latin typeface="Estrangelo Edessa"/>
                <a:ea typeface="Lato Medium"/>
              </a:rPr>
              <a:t>Conque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Group 28"/>
          <p:cNvGrpSpPr/>
          <p:nvPr/>
        </p:nvGrpSpPr>
        <p:grpSpPr>
          <a:xfrm>
            <a:off x="8977320" y="266760"/>
            <a:ext cx="2876400" cy="793080"/>
            <a:chOff x="8977320" y="266760"/>
            <a:chExt cx="2876400" cy="793080"/>
          </a:xfrm>
        </p:grpSpPr>
        <p:sp>
          <p:nvSpPr>
            <p:cNvPr id="1071" name="TextBox 24"/>
            <p:cNvSpPr/>
            <p:nvPr/>
          </p:nvSpPr>
          <p:spPr>
            <a:xfrm>
              <a:off x="8977320" y="266760"/>
              <a:ext cx="18100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25"/>
            <p:cNvSpPr/>
            <p:nvPr/>
          </p:nvSpPr>
          <p:spPr>
            <a:xfrm>
              <a:off x="10251000" y="499680"/>
              <a:ext cx="160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3" name="Rectangle 27"/>
          <p:cNvSpPr/>
          <p:nvPr/>
        </p:nvSpPr>
        <p:spPr>
          <a:xfrm>
            <a:off x="3189240" y="2354400"/>
            <a:ext cx="578808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5"/>
          <p:cNvSpPr/>
          <p:nvPr/>
        </p:nvSpPr>
        <p:spPr>
          <a:xfrm>
            <a:off x="0" y="901800"/>
            <a:ext cx="7475400" cy="59562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09480" y="1590840"/>
            <a:ext cx="40546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15"/>
          <p:cNvSpPr/>
          <p:nvPr/>
        </p:nvSpPr>
        <p:spPr>
          <a:xfrm>
            <a:off x="863640" y="1590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Shape 9168"/>
          <p:cNvSpPr/>
          <p:nvPr/>
        </p:nvSpPr>
        <p:spPr>
          <a:xfrm>
            <a:off x="609480" y="2766960"/>
            <a:ext cx="1246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4" name="Group 17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55" name="TextBox 18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9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6426360" y="901800"/>
            <a:ext cx="576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2193480" y="2128320"/>
            <a:ext cx="99982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3787920" y="0"/>
            <a:ext cx="840420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3787920" y="4354560"/>
            <a:ext cx="161100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5398920" y="3468600"/>
            <a:ext cx="4224600" cy="177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5"/>
          <p:cNvSpPr/>
          <p:nvPr/>
        </p:nvSpPr>
        <p:spPr>
          <a:xfrm>
            <a:off x="5756400" y="38149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6"/>
          <p:cNvGrpSpPr/>
          <p:nvPr/>
        </p:nvGrpSpPr>
        <p:grpSpPr>
          <a:xfrm>
            <a:off x="539640" y="3019320"/>
            <a:ext cx="2752920" cy="1024200"/>
            <a:chOff x="539640" y="3019320"/>
            <a:chExt cx="2752920" cy="1024200"/>
          </a:xfrm>
        </p:grpSpPr>
        <p:sp>
          <p:nvSpPr>
            <p:cNvPr id="1080" name="Rectangle 17"/>
            <p:cNvSpPr/>
            <p:nvPr/>
          </p:nvSpPr>
          <p:spPr>
            <a:xfrm>
              <a:off x="539640" y="30193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O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8"/>
            <p:cNvSpPr/>
            <p:nvPr/>
          </p:nvSpPr>
          <p:spPr>
            <a:xfrm>
              <a:off x="539640" y="33328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 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Group 20"/>
          <p:cNvGrpSpPr/>
          <p:nvPr/>
        </p:nvGrpSpPr>
        <p:grpSpPr>
          <a:xfrm>
            <a:off x="539640" y="4056120"/>
            <a:ext cx="2752920" cy="1024200"/>
            <a:chOff x="539640" y="4056120"/>
            <a:chExt cx="2752920" cy="1024200"/>
          </a:xfrm>
        </p:grpSpPr>
        <p:sp>
          <p:nvSpPr>
            <p:cNvPr id="1083" name="Rectangle 21"/>
            <p:cNvSpPr/>
            <p:nvPr/>
          </p:nvSpPr>
          <p:spPr>
            <a:xfrm>
              <a:off x="539640" y="40561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wo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22"/>
            <p:cNvSpPr/>
            <p:nvPr/>
          </p:nvSpPr>
          <p:spPr>
            <a:xfrm>
              <a:off x="539640" y="43696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Group 24"/>
          <p:cNvGrpSpPr/>
          <p:nvPr/>
        </p:nvGrpSpPr>
        <p:grpSpPr>
          <a:xfrm>
            <a:off x="539640" y="5095800"/>
            <a:ext cx="2752920" cy="1024200"/>
            <a:chOff x="539640" y="5095800"/>
            <a:chExt cx="2752920" cy="1024200"/>
          </a:xfrm>
        </p:grpSpPr>
        <p:sp>
          <p:nvSpPr>
            <p:cNvPr id="1086" name="Rectangle 25"/>
            <p:cNvSpPr/>
            <p:nvPr/>
          </p:nvSpPr>
          <p:spPr>
            <a:xfrm>
              <a:off x="539640" y="5095800"/>
              <a:ext cx="16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26"/>
            <p:cNvSpPr/>
            <p:nvPr/>
          </p:nvSpPr>
          <p:spPr>
            <a:xfrm>
              <a:off x="539640" y="540936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Group 38"/>
          <p:cNvGrpSpPr/>
          <p:nvPr/>
        </p:nvGrpSpPr>
        <p:grpSpPr>
          <a:xfrm>
            <a:off x="55440" y="54000"/>
            <a:ext cx="655920" cy="2363760"/>
            <a:chOff x="55440" y="54000"/>
            <a:chExt cx="655920" cy="2363760"/>
          </a:xfrm>
        </p:grpSpPr>
        <p:sp>
          <p:nvSpPr>
            <p:cNvPr id="1089" name="TextBox 36"/>
            <p:cNvSpPr/>
            <p:nvPr/>
          </p:nvSpPr>
          <p:spPr>
            <a:xfrm rot="16200000">
              <a:off x="-520920" y="11851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 rot="16200000">
              <a:off x="-279720" y="57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787920" y="566640"/>
            <a:ext cx="7735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5567400" y="1771560"/>
            <a:ext cx="6624720" cy="132876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hape 9168"/>
          <p:cNvSpPr/>
          <p:nvPr/>
        </p:nvSpPr>
        <p:spPr>
          <a:xfrm>
            <a:off x="5883120" y="3467160"/>
            <a:ext cx="569916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8"/>
          <p:cNvSpPr/>
          <p:nvPr/>
        </p:nvSpPr>
        <p:spPr>
          <a:xfrm>
            <a:off x="5645160" y="18972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9"/>
          <p:cNvSpPr/>
          <p:nvPr/>
        </p:nvSpPr>
        <p:spPr>
          <a:xfrm>
            <a:off x="0" y="0"/>
            <a:ext cx="2820960" cy="278136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10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097" name="TextBox 11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0" y="1733040"/>
            <a:ext cx="4896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hape 9168"/>
          <p:cNvSpPr/>
          <p:nvPr/>
        </p:nvSpPr>
        <p:spPr>
          <a:xfrm>
            <a:off x="5656320" y="2963520"/>
            <a:ext cx="56196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 anchorCtr="1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0"/>
          <p:cNvSpPr/>
          <p:nvPr/>
        </p:nvSpPr>
        <p:spPr>
          <a:xfrm>
            <a:off x="3773520" y="725400"/>
            <a:ext cx="4224240" cy="15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1"/>
          <p:cNvSpPr/>
          <p:nvPr/>
        </p:nvSpPr>
        <p:spPr>
          <a:xfrm>
            <a:off x="4095720" y="9367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2"/>
          <p:cNvGrpSpPr/>
          <p:nvPr/>
        </p:nvGrpSpPr>
        <p:grpSpPr>
          <a:xfrm>
            <a:off x="11390400" y="61920"/>
            <a:ext cx="655920" cy="2363760"/>
            <a:chOff x="11390400" y="61920"/>
            <a:chExt cx="655920" cy="2363760"/>
          </a:xfrm>
        </p:grpSpPr>
        <p:sp>
          <p:nvSpPr>
            <p:cNvPr id="1105" name="TextBox 13"/>
            <p:cNvSpPr/>
            <p:nvPr/>
          </p:nvSpPr>
          <p:spPr>
            <a:xfrm rot="16200000">
              <a:off x="10813680" y="11930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4"/>
            <p:cNvSpPr/>
            <p:nvPr/>
          </p:nvSpPr>
          <p:spPr>
            <a:xfrm rot="16200000">
              <a:off x="11054880" y="586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3"/>
          <p:cNvSpPr/>
          <p:nvPr/>
        </p:nvSpPr>
        <p:spPr>
          <a:xfrm>
            <a:off x="7475400" y="0"/>
            <a:ext cx="471672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4452840" y="825480"/>
            <a:ext cx="4224600" cy="13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4809960" y="9558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 Placeholder 6"/>
          <p:cNvSpPr/>
          <p:nvPr/>
        </p:nvSpPr>
        <p:spPr>
          <a:xfrm>
            <a:off x="669960" y="2784600"/>
            <a:ext cx="54720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or association of persons can be created at law as legal person so that the company in itself can accept Limited liability for civ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1030320" y="4299120"/>
            <a:ext cx="38401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3" name="Group 9"/>
          <p:cNvGrpSpPr/>
          <p:nvPr/>
        </p:nvGrpSpPr>
        <p:grpSpPr>
          <a:xfrm>
            <a:off x="104760" y="50760"/>
            <a:ext cx="655920" cy="2363760"/>
            <a:chOff x="104760" y="50760"/>
            <a:chExt cx="655920" cy="2363760"/>
          </a:xfrm>
        </p:grpSpPr>
        <p:sp>
          <p:nvSpPr>
            <p:cNvPr id="1114" name="TextBox 10"/>
            <p:cNvSpPr/>
            <p:nvPr/>
          </p:nvSpPr>
          <p:spPr>
            <a:xfrm rot="16200000">
              <a:off x="-471600" y="118188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1"/>
            <p:cNvSpPr/>
            <p:nvPr/>
          </p:nvSpPr>
          <p:spPr>
            <a:xfrm rot="16200000">
              <a:off x="-243720" y="57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13"/>
          <p:cNvSpPr/>
          <p:nvPr/>
        </p:nvSpPr>
        <p:spPr>
          <a:xfrm>
            <a:off x="0" y="4159080"/>
            <a:ext cx="5962680" cy="13273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1495440" y="4335480"/>
            <a:ext cx="4351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ato"/>
                <a:ea typeface="Lato"/>
              </a:rPr>
              <a:t>A company is an association or collection of individuals, whether natural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4"/>
          <p:cNvGrpSpPr/>
          <p:nvPr/>
        </p:nvGrpSpPr>
        <p:grpSpPr>
          <a:xfrm>
            <a:off x="6919920" y="2092320"/>
            <a:ext cx="4376880" cy="4401720"/>
            <a:chOff x="6919920" y="2092320"/>
            <a:chExt cx="4376880" cy="4401720"/>
          </a:xfrm>
        </p:grpSpPr>
        <p:sp>
          <p:nvSpPr>
            <p:cNvPr id="1120" name="Shape 9168"/>
            <p:cNvSpPr/>
            <p:nvPr/>
          </p:nvSpPr>
          <p:spPr>
            <a:xfrm>
              <a:off x="6986880" y="2327760"/>
              <a:ext cx="4309920" cy="41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6919920" y="2092320"/>
              <a:ext cx="99756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8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2" name="Group 10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3" name="TextBox 11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596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5"/>
          <p:cNvSpPr/>
          <p:nvPr/>
        </p:nvSpPr>
        <p:spPr>
          <a:xfrm>
            <a:off x="0" y="2171880"/>
            <a:ext cx="1276200" cy="46861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hape 9168"/>
          <p:cNvSpPr/>
          <p:nvPr/>
        </p:nvSpPr>
        <p:spPr>
          <a:xfrm>
            <a:off x="7139160" y="3030480"/>
            <a:ext cx="4308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Group 13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9" name="TextBox 14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Rectangle 9"/>
          <p:cNvSpPr/>
          <p:nvPr/>
        </p:nvSpPr>
        <p:spPr>
          <a:xfrm>
            <a:off x="6865920" y="1566720"/>
            <a:ext cx="5326200" cy="8575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6865920" y="1455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0" y="3142800"/>
            <a:ext cx="6438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9487080" y="1714680"/>
            <a:ext cx="2705040" cy="51433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958680" y="1714680"/>
            <a:ext cx="4413600" cy="4027320"/>
            <a:chOff x="958680" y="1714680"/>
            <a:chExt cx="4413600" cy="4027320"/>
          </a:xfrm>
        </p:grpSpPr>
        <p:sp>
          <p:nvSpPr>
            <p:cNvPr id="1136" name="Shape 9168"/>
            <p:cNvSpPr/>
            <p:nvPr/>
          </p:nvSpPr>
          <p:spPr>
            <a:xfrm>
              <a:off x="1063440" y="1850040"/>
              <a:ext cx="4308840" cy="38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8"/>
            <p:cNvSpPr/>
            <p:nvPr/>
          </p:nvSpPr>
          <p:spPr>
            <a:xfrm>
              <a:off x="958680" y="1714680"/>
              <a:ext cx="99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39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6743880" y="1714320"/>
            <a:ext cx="5448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5"/>
          <p:cNvSpPr/>
          <p:nvPr/>
        </p:nvSpPr>
        <p:spPr>
          <a:xfrm>
            <a:off x="4716360" y="0"/>
            <a:ext cx="7475760" cy="5661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361200" y="3527280"/>
            <a:ext cx="405432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7"/>
          <p:cNvSpPr/>
          <p:nvPr/>
        </p:nvSpPr>
        <p:spPr>
          <a:xfrm>
            <a:off x="6615000" y="352728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hape 9168"/>
          <p:cNvSpPr/>
          <p:nvPr/>
        </p:nvSpPr>
        <p:spPr>
          <a:xfrm>
            <a:off x="6361200" y="4703760"/>
            <a:ext cx="4078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47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4:32:55Z</dcterms:created>
  <dc:creator>Lenovo</dc:creator>
  <dc:description/>
  <dc:language>en-US</dc:language>
  <cp:lastModifiedBy>user</cp:lastModifiedBy>
  <dcterms:modified xsi:type="dcterms:W3CDTF">2019-06-01T15:18:14Z</dcterms:modified>
  <cp:revision>40</cp:revision>
  <dc:subject/>
  <dc:title>PowerPoint Presentation</dc:title>
</cp:coreProperties>
</file>